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6C4-193C-4939-89AF-8C39EA8A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F5D-83D6-4689-9F60-6E0C1EE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748-D1D1-4AC5-ACF3-963A0332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11E-092B-4FED-882D-6B080074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C0A5-8700-4537-B990-FA591133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B8B8-7999-43D1-96F1-C8E1382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6B40-DFB7-4818-AC6C-D8494B8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59A-BA1C-4635-8E60-314272C8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C88E-CD58-49EE-B049-99710DD2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36CC-693F-4550-8A14-E78D2D7F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88C4-BB46-4FE2-B5B3-60CFBA7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8C4-2144-4A36-9E2A-910AC4A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2367-B33B-43D5-8A9D-B885352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45B-F467-403D-8BE3-4383FDE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FBA9-E6D2-4238-8D21-64EBA988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C3B1-2E70-4FE7-A43E-B254A6F8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0296-163D-4BDA-9157-ECDCFE65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3E2-1D89-4323-BE28-737CF68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AA5-0F83-4436-B233-B4477517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C1A-7D55-442F-AE10-D872C56B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CC0-83A0-4553-901C-8A6612D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08F-0DE4-403B-A28F-FB8685B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925-165A-4394-881B-10E8DEC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E9F-9A32-42FF-ADCA-4DFC9A8C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70D1-BD73-46BE-B720-361EC15662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E06F-644B-4BE1-B7BA-4EA313DB4A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onix-trade.net/forum/uploads/monthly_03_2009/post-2767-1236134264_thumb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44C-F127-4EAC-8AF2-536C8D121BA2}" type="slidenum">
              <a:rPr b="1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[Minus] Voennye pesni - Marsh 'Proschanie slavyanki'.mp3" descr=""/>
          <p:cNvPicPr/>
          <p:nvPr/>
        </p:nvPicPr>
        <p:blipFill>
          <a:blip r:embed="rId2"/>
          <a:stretch/>
        </p:blipFill>
        <p:spPr>
          <a:xfrm>
            <a:off x="80010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49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M:\открытый урок\русско-турецкая война\15042-1384841073-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755-77E3-447A-B220-51915D4C57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5726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Причины </a:t>
            </a:r>
            <a:br>
              <a:rPr sz="4400"/>
            </a:b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русско-турецкой войны 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928880"/>
            <a:ext cx="8258040" cy="420192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стрение противоречий между западноевропейскими государствами на Балкан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ободительная борьба балканских народов против Тур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D0FA-9F3E-49D0-8F9D-074AB158EE1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Ход русско-турецкой войны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 апреля 1877 г.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дписа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ниф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начале войны с Тур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0554-6207-495B-BBFF-45591B7003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5" descr=""/>
          <p:cNvPicPr/>
          <p:nvPr/>
        </p:nvPicPr>
        <p:blipFill>
          <a:blip r:embed="rId1"/>
          <a:srcRect l="20683" t="4272" r="24143" b="0"/>
          <a:stretch/>
        </p:blipFill>
        <p:spPr>
          <a:xfrm>
            <a:off x="1214280" y="0"/>
            <a:ext cx="71438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D741-0028-4F18-A9D1-40E37867AA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Кавказский фронт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rcRect l="20683" t="15939" r="51629" b="51141"/>
          <a:stretch/>
        </p:blipFill>
        <p:spPr>
          <a:xfrm>
            <a:off x="1428840" y="1428840"/>
            <a:ext cx="6500880" cy="47149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BA05-6DD6-4986-B681-0F1191E18B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од русско-турецкой войны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вказский фрон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2920" y="2500200"/>
            <a:ext cx="6245280" cy="2087640"/>
          </a:xfrm>
          <a:prstGeom prst="rect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ffff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рис-Меликов занял кре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яз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да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Картинка 10 из 1166"/>
          <p:cNvPicPr/>
          <p:nvPr/>
        </p:nvPicPr>
        <p:blipFill>
          <a:blip r:embed="rId1"/>
          <a:stretch/>
        </p:blipFill>
        <p:spPr>
          <a:xfrm>
            <a:off x="-2484360" y="5013360"/>
            <a:ext cx="2230200" cy="314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артинка 1 из 14"/>
          <p:cNvPicPr/>
          <p:nvPr/>
        </p:nvPicPr>
        <p:blipFill>
          <a:blip r:embed="rId2"/>
          <a:stretch/>
        </p:blipFill>
        <p:spPr>
          <a:xfrm>
            <a:off x="5357880" y="3143160"/>
            <a:ext cx="2928960" cy="353700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4EF-F6B2-4AFA-8807-F8053A7B12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0.06528 L 0.66545 -0.45995 E">
                                      <p:cBhvr>
                                        <p:cTn id="3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220000" y="2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3" descr="M:\открытый урок\русско-турецкая война\карт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75E5-926E-4754-895A-5F25DDF2DB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7"/>
          <p:cNvSpPr/>
          <p:nvPr/>
        </p:nvSpPr>
        <p:spPr>
          <a:xfrm>
            <a:off x="1071720" y="1285920"/>
            <a:ext cx="7072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агетная рамка 13"/>
          <p:cNvSpPr/>
          <p:nvPr/>
        </p:nvSpPr>
        <p:spPr>
          <a:xfrm>
            <a:off x="857160" y="142920"/>
            <a:ext cx="7786800" cy="85716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евые действия летом 187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285840" y="1143000"/>
            <a:ext cx="857232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"На Шипке все спокойно", - изо дня в день печатали русские газеты донесения штаба. Чего стоит солдатам это мнимое спокойствие показал художник-баталист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.В. Верещагин</a:t>
            </a: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21472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4d00"/>
                </a:solidFill>
                <a:latin typeface="Arial"/>
              </a:rPr>
              <a:t>В.Верещаг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4d00"/>
                </a:solidFill>
                <a:latin typeface="Arial"/>
              </a:rPr>
              <a:t>На Шипке все споко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0"/>
          <p:cNvGrpSpPr/>
          <p:nvPr/>
        </p:nvGrpSpPr>
        <p:grpSpPr>
          <a:xfrm>
            <a:off x="1071720" y="2857680"/>
            <a:ext cx="6357960" cy="3214440"/>
            <a:chOff x="1071720" y="2857680"/>
            <a:chExt cx="6357960" cy="3214440"/>
          </a:xfrm>
        </p:grpSpPr>
        <p:pic>
          <p:nvPicPr>
            <p:cNvPr id="144" name="Picture 2" descr="http://z1.foto.rambler.ru/public/dima_4udik/27/7/1-web.jpg"/>
            <p:cNvPicPr/>
            <p:nvPr/>
          </p:nvPicPr>
          <p:blipFill>
            <a:blip r:embed="rId1"/>
            <a:stretch/>
          </p:blipFill>
          <p:spPr>
            <a:xfrm>
              <a:off x="1071720" y="2857680"/>
              <a:ext cx="2074680" cy="3214440"/>
            </a:xfrm>
            <a:prstGeom prst="rect">
              <a:avLst/>
            </a:prstGeom>
            <a:ln cap="sq" w="38160">
              <a:solidFill>
                <a:srgbClr val="cc99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45" name="Picture 4" descr="http://realgallery.ru/copy_pictures/big/1043101.jpg?14.09.10.10.49.47"/>
            <p:cNvPicPr/>
            <p:nvPr/>
          </p:nvPicPr>
          <p:blipFill>
            <a:blip r:embed="rId2"/>
            <a:stretch/>
          </p:blipFill>
          <p:spPr>
            <a:xfrm>
              <a:off x="3162240" y="2857680"/>
              <a:ext cx="2108160" cy="3214440"/>
            </a:xfrm>
            <a:prstGeom prst="rect">
              <a:avLst/>
            </a:prstGeom>
            <a:ln cap="sq" w="38160">
              <a:solidFill>
                <a:srgbClr val="cc99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46" name="Picture 6" descr="Картинка 3 из 8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254920" y="2857680"/>
              <a:ext cx="2174760" cy="3214440"/>
            </a:xfrm>
            <a:prstGeom prst="rect">
              <a:avLst/>
            </a:prstGeom>
            <a:ln cap="sq" w="38160">
              <a:solidFill>
                <a:srgbClr val="cc99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  <p:sp>
        <p:nvSpPr>
          <p:cNvPr id="147" name="Скругленный прямоугольник 11"/>
          <p:cNvSpPr/>
          <p:nvPr/>
        </p:nvSpPr>
        <p:spPr>
          <a:xfrm>
            <a:off x="642960" y="142920"/>
            <a:ext cx="79297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ак художник изобразил «спокойствие»  на Ши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285840" y="1143000"/>
            <a:ext cx="857232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"Спокойно", без выстрелов и разрывов снарядов русские войска потеряли на Шипке замерзшими, обмороженными и больными 9,5 тысяч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2003-D6B0-4E84-B232-DD6030B571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:\открытый урок\русско-турецкая война\Драгомиров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2E0-9276-46CC-ADC6-F373AADCF4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:\открытый урок\русско-турецкая война\Столетов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CC4-7DAA-4DBB-8B70-C2295DA496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DCE6-4246-4C9E-BDAE-4EAEB76F9096}" type="slidenum">
              <a:rPr b="1" lang="ru-RU" sz="2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4" descr="Картинка 5 из 5"/>
          <p:cNvPicPr/>
          <p:nvPr/>
        </p:nvPicPr>
        <p:blipFill>
          <a:blip r:embed="rId1"/>
          <a:stretch/>
        </p:blipFill>
        <p:spPr>
          <a:xfrm>
            <a:off x="5940360" y="0"/>
            <a:ext cx="3102120" cy="4508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3240000" cy="129528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ер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рко Н. 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904000" y="4508640"/>
            <a:ext cx="3240000" cy="129528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ер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иденер Н. 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Картинка 1 из 31"/>
          <p:cNvPicPr/>
          <p:nvPr/>
        </p:nvPicPr>
        <p:blipFill>
          <a:blip r:embed="rId2"/>
          <a:stretch/>
        </p:blipFill>
        <p:spPr>
          <a:xfrm>
            <a:off x="0" y="0"/>
            <a:ext cx="355284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8B99-7A43-423C-8285-AFEA46E497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Белый генерал -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Михаил Дмитриевич Скобелев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0" name="Picture 4" descr="046"/>
          <p:cNvPicPr/>
          <p:nvPr/>
        </p:nvPicPr>
        <p:blipFill>
          <a:blip r:embed="rId1"/>
          <a:stretch/>
        </p:blipFill>
        <p:spPr>
          <a:xfrm>
            <a:off x="809640" y="1638360"/>
            <a:ext cx="333360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048"/>
          <p:cNvPicPr/>
          <p:nvPr/>
        </p:nvPicPr>
        <p:blipFill>
          <a:blip r:embed="rId2"/>
          <a:stretch/>
        </p:blipFill>
        <p:spPr>
          <a:xfrm>
            <a:off x="4859280" y="1628640"/>
            <a:ext cx="3745080" cy="4362480"/>
          </a:xfrm>
          <a:prstGeom prst="rect">
            <a:avLst/>
          </a:prstGeom>
          <a:ln w="0">
            <a:noFill/>
          </a:ln>
        </p:spPr>
      </p:pic>
      <p:sp>
        <p:nvSpPr>
          <p:cNvPr id="16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09A2-10E3-4CE6-8CDB-1FBB15F76E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7"/>
          <p:cNvSpPr/>
          <p:nvPr/>
        </p:nvSpPr>
        <p:spPr>
          <a:xfrm>
            <a:off x="1071720" y="1285920"/>
            <a:ext cx="7072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агетная рамка 13"/>
          <p:cNvSpPr/>
          <p:nvPr/>
        </p:nvSpPr>
        <p:spPr>
          <a:xfrm>
            <a:off x="857160" y="142920"/>
            <a:ext cx="7786800" cy="857160"/>
          </a:xfrm>
          <a:prstGeom prst="bevel">
            <a:avLst>
              <a:gd name="adj" fmla="val 12500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Д. Скобе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5"/>
          <p:cNvSpPr/>
          <p:nvPr/>
        </p:nvSpPr>
        <p:spPr>
          <a:xfrm>
            <a:off x="285840" y="1071720"/>
            <a:ext cx="4429080" cy="564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ихаил Дмитриевич Скобелев </a:t>
            </a: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(1843—1882) родился в Петербурге в семье офицера. С началом русско-турецкой войны Скобелев по его настойчивой просьбе был прикомандирован к командующему Дунайской армией в качестве резервного генерала. Перед третьим штурмом Плевны Скобелев был назначен командующим левофланговым отря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http://ote4estvo.ru/uploads/1266930337_skobelev.gif"/>
          <p:cNvPicPr/>
          <p:nvPr/>
        </p:nvPicPr>
        <p:blipFill>
          <a:blip r:embed="rId1"/>
          <a:srcRect l="7127" t="5360" r="7376" b="5360"/>
          <a:stretch/>
        </p:blipFill>
        <p:spPr>
          <a:xfrm>
            <a:off x="5000760" y="1214280"/>
            <a:ext cx="3714480" cy="5159520"/>
          </a:xfrm>
          <a:prstGeom prst="rect">
            <a:avLst/>
          </a:prstGeom>
          <a:ln cap="sq" w="38160">
            <a:solidFill>
              <a:srgbClr val="cc99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8" name="Прямоугольник 7"/>
          <p:cNvSpPr/>
          <p:nvPr/>
        </p:nvSpPr>
        <p:spPr>
          <a:xfrm>
            <a:off x="5864760" y="635796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Д. Скобел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142920" y="1071720"/>
            <a:ext cx="4714920" cy="564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Яркая и популярная личностью среди русских полководцев второй половины </a:t>
            </a:r>
            <a:r>
              <a:rPr b="1" lang="en-US" sz="2400" spc="-1" strike="noStrike">
                <a:solidFill>
                  <a:srgbClr val="664d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в. Скобелев заботливо относился к солдатам, тщательно готовил войска к боям, личным примером увлекал их в атаку. Солдаты верили в его неуязвимость, поскольку, лично участвуя в самых кровавых боях, он ни разу не был ранен. Болгарский народ считал его своим национальным геро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"/>
          <p:cNvSpPr/>
          <p:nvPr/>
        </p:nvSpPr>
        <p:spPr>
          <a:xfrm>
            <a:off x="500040" y="142920"/>
            <a:ext cx="8429760" cy="857160"/>
          </a:xfrm>
          <a:prstGeom prst="rect">
            <a:avLst/>
          </a:prstGeom>
          <a:gradFill rotWithShape="0">
            <a:gsLst>
              <a:gs pos="0">
                <a:srgbClr val="b3dcaf"/>
              </a:gs>
              <a:gs pos="100000">
                <a:srgbClr val="ebf6ea"/>
              </a:gs>
            </a:gsLst>
            <a:lin ang="16200000"/>
          </a:gradFill>
          <a:ln w="9360">
            <a:solidFill>
              <a:srgbClr val="3880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Недаром на венке потом</a:t>
            </a:r>
            <a:br>
              <a:rPr sz="2400"/>
            </a:br>
            <a:r>
              <a:rPr b="1" lang="ru-RU" sz="2400" spc="-1" strike="noStrike">
                <a:solidFill>
                  <a:srgbClr val="664d00"/>
                </a:solidFill>
                <a:latin typeface="Arial"/>
              </a:rPr>
              <a:t>напишут: «Скобелев Суворову был равным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10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F577-CF44-442E-81BE-11EAD2BAC2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Сан-Стефанский мирный договор</a:t>
            </a:r>
            <a:br>
              <a:rPr sz="36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(19 февраля 1878 г.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42680"/>
            <a:ext cx="4678200" cy="4714920"/>
          </a:xfrm>
          <a:prstGeom prst="rect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ffffff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бия, Черногория, Румыния – независ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гария – автономное княжество в составе Османской имп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получала Южную Бессарабию, кавказские города Ардаган, Карс, Баязет, Бат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http://forumrostov.ru/uploads/monthly_04_2008/post-11552-1208922765.jpg"/>
          <p:cNvPicPr/>
          <p:nvPr/>
        </p:nvPicPr>
        <p:blipFill>
          <a:blip r:embed="rId1"/>
          <a:stretch/>
        </p:blipFill>
        <p:spPr>
          <a:xfrm>
            <a:off x="1500120" y="5286240"/>
            <a:ext cx="2529000" cy="157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lesson-history.narod.ru/map/it187888.gif"/>
          <p:cNvPicPr/>
          <p:nvPr/>
        </p:nvPicPr>
        <p:blipFill>
          <a:blip r:embed="rId2"/>
          <a:stretch/>
        </p:blipFill>
        <p:spPr>
          <a:xfrm>
            <a:off x="5065560" y="1378080"/>
            <a:ext cx="4078440" cy="54799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4E2C-784D-430A-BADE-EAE9DA9F29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Берлинский конгресс</a:t>
            </a:r>
            <a:br>
              <a:rPr sz="4400"/>
            </a:b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( июль 1878 г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2920" y="1714320"/>
            <a:ext cx="4929120" cy="4786200"/>
          </a:xfrm>
          <a:prstGeom prst="rect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ffffff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гария разделена на 2 час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ая – зависимое от Турции княжество, Южная- автономная турецкая провинция Восточная Румел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езаны территории Сербии и Черного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я возвращала крепость Баязет Тур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стрия – Босния и Герцегов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глия – остров Ки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Картинка 3 из 25"/>
          <p:cNvPicPr/>
          <p:nvPr/>
        </p:nvPicPr>
        <p:blipFill>
          <a:blip r:embed="rId1"/>
          <a:stretch/>
        </p:blipFill>
        <p:spPr>
          <a:xfrm>
            <a:off x="214200" y="142920"/>
            <a:ext cx="2055960" cy="1500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lesson-history.narod.ru/map/it187888.gif"/>
          <p:cNvPicPr/>
          <p:nvPr/>
        </p:nvPicPr>
        <p:blipFill>
          <a:blip r:embed="rId2"/>
          <a:stretch/>
        </p:blipFill>
        <p:spPr>
          <a:xfrm>
            <a:off x="5065560" y="1378080"/>
            <a:ext cx="4078440" cy="5479920"/>
          </a:xfrm>
          <a:prstGeom prst="rect">
            <a:avLst/>
          </a:prstGeom>
          <a:ln w="0">
            <a:noFill/>
          </a:ln>
        </p:spPr>
      </p:pic>
      <p:sp>
        <p:nvSpPr>
          <p:cNvPr id="18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E7FE-C629-415F-BC16-3A1E4453D9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4240" y="2286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Проблемный вопрос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Стоило ли России участвовать в этой войне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157-5299-4070-9B17-7BBB209DDC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2286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§</a:t>
            </a:r>
            <a:r>
              <a:rPr b="1" i="1" lang="ru-RU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28, вопросы 1-5, продолжить работу по  контурной карте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79A0-6D24-4B7A-828C-F37642A840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7280" y="259920"/>
            <a:ext cx="5076720" cy="6093000"/>
          </a:xfrm>
          <a:prstGeom prst="rect">
            <a:avLst/>
          </a:prstGeom>
          <a:solidFill>
            <a:srgbClr val="fbfffb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8 ноября 1887 года в Москве, в сквере на площади у Ильинских ворот, в день 10-летия освобождения Плевны был открыт памятник-часовня. Скромная надпись на нем гласит: «Гренадеры своим товарищам, павшим в славном бою под Плевной. В память войны с Турцией 1877-1878 г.г.»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7" name="Picture 14" descr="00pe2"/>
          <p:cNvPicPr/>
          <p:nvPr/>
        </p:nvPicPr>
        <p:blipFill>
          <a:blip r:embed="rId1"/>
          <a:stretch/>
        </p:blipFill>
        <p:spPr>
          <a:xfrm>
            <a:off x="0" y="836640"/>
            <a:ext cx="4029120" cy="4968720"/>
          </a:xfrm>
          <a:prstGeom prst="rect">
            <a:avLst/>
          </a:prstGeom>
          <a:ln w="0">
            <a:noFill/>
          </a:ln>
        </p:spPr>
      </p:pic>
      <p:sp>
        <p:nvSpPr>
          <p:cNvPr id="188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CEE-A6EE-46AA-A107-B7A53527DA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6633"/>
                </a:solidFill>
                <a:latin typeface="Garamond"/>
              </a:rPr>
              <a:t>РУССКО-ТУРЕЦКАЯ ВОЙНА</a:t>
            </a:r>
            <a:br>
              <a:rPr sz="5600"/>
            </a:br>
            <a:r>
              <a:rPr b="1" lang="ru-RU" sz="5600" spc="-1" strike="noStrike">
                <a:solidFill>
                  <a:srgbClr val="006633"/>
                </a:solidFill>
                <a:latin typeface="Garamond"/>
              </a:rPr>
              <a:t>1877-1878 годов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3F90-F5C3-41A7-BFA4-0A0D6002A0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РУССКО-ТУРЕЦКАЯ ВОЙНА</a:t>
            </a:r>
            <a:br>
              <a:rPr sz="4000"/>
            </a:b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                 1877-1878 годов</a:t>
            </a:r>
            <a:br>
              <a:rPr sz="5600"/>
            </a:br>
            <a:br>
              <a:rPr sz="5600"/>
            </a:br>
            <a:r>
              <a:rPr b="1" lang="ru-RU" sz="56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План урока: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Причины войны.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Ход военных действий.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Итоги и значение войны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0AC3-DA68-4DC2-9318-45B7196BEA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2286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Проблемный вопрос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Стоило ли России участвовать в этой войне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C37-370B-49C5-92AD-ADF486A3F1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it187888"/>
          <p:cNvPicPr/>
          <p:nvPr/>
        </p:nvPicPr>
        <p:blipFill>
          <a:blip r:embed="rId1"/>
          <a:stretch/>
        </p:blipFill>
        <p:spPr>
          <a:xfrm>
            <a:off x="1370160" y="0"/>
            <a:ext cx="64386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883B-C7AE-4746-B967-9122771A71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M:\открытый урок\русско-турецкая война\Склифосовский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B946-E4C1-4DA7-9513-BC26BFD43E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.И. Ботки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Рисунок 3" descr="M:\открытый урок\Sergey_Botkin_after_Kramskoi.jpg"/>
          <p:cNvPicPr/>
          <p:nvPr/>
        </p:nvPicPr>
        <p:blipFill>
          <a:blip r:embed="rId1"/>
          <a:stretch/>
        </p:blipFill>
        <p:spPr>
          <a:xfrm>
            <a:off x="2571840" y="1000080"/>
            <a:ext cx="4314600" cy="53960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948F-C158-41D0-B943-69BD96E2CF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M:\открытый урок\русско-турецкая война\Пирогов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B5D-3E3D-4777-987C-31F3605DB5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6:02:41Z</dcterms:created>
  <dc:creator>Юлия</dc:creator>
  <dc:description/>
  <dc:language>en-US</dc:language>
  <cp:lastModifiedBy>Антон</cp:lastModifiedBy>
  <dcterms:modified xsi:type="dcterms:W3CDTF">2016-04-12T17:27:15Z</dcterms:modified>
  <cp:revision>60</cp:revision>
  <dc:subject/>
  <dc:title>РУССКО-ТУРЕЦКАЯ ВОЙНА 1877-1878 годов</dc:title>
</cp:coreProperties>
</file>